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25A6-B77D-4B62-9A87-80BBF84E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46CB-53AB-4532-BB10-9487B464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E4FC-5B2D-4C33-98FF-5D9AC7FC4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1FF-7E5A-4410-83B0-F6A89873B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88FC-D611-4BD0-9B1E-47299420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10DE-E2DD-4CD6-9FE4-741FE3247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B94E-3311-47B8-8ABA-3285F88A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3D58D-8C29-4C3B-A18E-719181AE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DE57-E514-4030-B42F-7A33FE03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91F7-D54C-4D17-B09A-E47075C5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3CB9B-9FFE-4285-8E0C-9BCA8F9C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8519-AE2B-4CA2-A823-D4A30702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D7655-8FA2-4A65-B0A8-46873F17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31746-302F-455F-9857-8D823A8F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A23A-9AAB-4201-B5A9-877418E7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C7809-F151-46A8-91DA-062A1966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6374-EFDA-4E98-96DD-D17D0126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3827-7771-484B-A69C-C9D58964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08D6-E197-42B9-BC3D-F4C15531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883A-BEC9-4732-B226-1C00DEDFB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F472-7763-4710-9BFD-AA4B417E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3BF9-EA16-43C6-9EC8-1E29C04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531-8A91-4D3A-B882-03D23F86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E61-AB0B-40EB-B65E-DABA1A94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F218-6B2A-4679-B574-A68AE149A50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92C-353A-4A07-B27E-F7C70EA6E7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Verdana"/>
              </a:rPr>
              <a:t>Legge 199/2016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4000" y="3428640"/>
            <a:ext cx="7802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Azioni virtuose e criticit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-8280" y="27219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476360" y="691200"/>
            <a:ext cx="532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Verdana"/>
              </a:rPr>
              <a:t>GRAZ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Monica Accog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Verdana"/>
              </a:rPr>
              <a:t>Flai CGIL Lecc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9280" y="249228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repressive (attraverso le forze dell’ordine e attività di contrasto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otenziamento della Rete del lavoro Agricolo di Qualità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272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-8280" y="2707560"/>
            <a:ext cx="1686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539280" y="1196640"/>
            <a:ext cx="8001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La legge individua percorsi per aggredire: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fruttamento del lavoro e intermediazione illecit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9280" y="3068640"/>
            <a:ext cx="80010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le principio incontrerebbe gli auspici della Regionale (Puglia) 28/2006 e del Protocollo Sperimentale “Cura-legalità e uscita dal Ghetto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e risorse:POR 2014/202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539280" y="1341360"/>
            <a:ext cx="8001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Ipotesi:individuazione di un ”soggetto regionale“ di contrasto al lavoro nero e caporala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1052280"/>
            <a:ext cx="8001000" cy="143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INCONTRO DOMANDA/OFFERTA DI LAVORO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001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Costituzione presso i CpI di “sezione per il mercato del lavoro in agricoltura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azione sportelli mobili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rmazione degli operatori dei Cp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ACCOGLIEN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delle risorse (legge di bilancio regionale Puglia 2016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Utilizzo risorse previste nel Piano Regionale per le Politiche Abitative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“campi di Ospitalita” (Protocollo di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Verdana"/>
              </a:rPr>
              <a:t>Progetti sperimentali Enti bilaterali del settore Agricolo (CASSA AMICA LECCE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800" spc="-1" strike="noStrike">
                <a:solidFill>
                  <a:srgbClr val="000000"/>
                </a:solidFill>
                <a:latin typeface="Verdana"/>
              </a:rPr>
              <a:t>TRASPOR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Fondi FESR (Asse 7 trasporto pubblico local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Istituzione di Protocolli specifici con i Comuni (Protocollo di Lecce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evisione di un sistema incentivante per le imprese che utilizzano trasporto pubblic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000000"/>
                </a:solidFill>
                <a:latin typeface="Verdana"/>
              </a:rPr>
              <a:t>EDUCAZIONE ALLA LEGALIT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rt. 1 Legge regionale 28/2006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tocolli d’intesa tra pubbliche amministrazioni e OO.DD. e OO.SS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zioni di monitoraggio degli indici di congruità in agricoltura (regolamento n. 31/2009)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765000"/>
            <a:ext cx="8001000" cy="75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Protocollo d’Intesa Lec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tato dell’arte e criticit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Risultato immagine per LOGO FLAI CGIL"/>
          <p:cNvPicPr/>
          <p:nvPr/>
        </p:nvPicPr>
        <p:blipFill>
          <a:blip r:embed="rId1"/>
          <a:stretch/>
        </p:blipFill>
        <p:spPr>
          <a:xfrm>
            <a:off x="179280" y="189000"/>
            <a:ext cx="72396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2023560" y="548280"/>
            <a:ext cx="41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808080"/>
                </a:solidFill>
                <a:latin typeface="Franklin Gothic Book"/>
                <a:ea typeface="Calibri"/>
              </a:rPr>
              <a:t>Federazione Lavoratori Agroindustria LECCE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Attività sindacali FLAI CGIL</a:t>
            </a:r>
            <a:br>
              <a:rPr sz="3400"/>
            </a:br>
            <a:r>
              <a:rPr b="0" lang="it-IT" sz="3400" spc="-1" strike="noStrike">
                <a:solidFill>
                  <a:srgbClr val="000000"/>
                </a:solidFill>
                <a:latin typeface="Verdana"/>
              </a:rPr>
              <a:t>(oltre la Legge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Attività “Ancora in campo”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Progetto “Formazione SPRAR E CAS”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0T15:38:31Z</dcterms:created>
  <dc:creator>Monica</dc:creator>
  <dc:description/>
  <dc:language>en-US</dc:language>
  <cp:lastModifiedBy>Maria Carmela Macri</cp:lastModifiedBy>
  <dcterms:modified xsi:type="dcterms:W3CDTF">2017-12-12T10:49:58Z</dcterms:modified>
  <cp:revision>6</cp:revision>
  <dc:subject/>
  <dc:title>Legge 199/2016</dc:title>
</cp:coreProperties>
</file>